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drumroll.wav" ContentType="audio/x-wav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05E-4C3A-4B93-AE68-68A1F2E0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64C-8F79-4CCF-8D6D-ECD25DF7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AB289-7CB7-4E6B-849C-B8F07535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A5BB0-7BB9-4D8F-9C1E-0BA7733C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62039-AB20-4E8A-B45F-1B67AFB4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7ECEE-41EE-4843-BB3D-200DC965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94262-6ED9-47FD-A059-1890DB34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C340D-F8A2-45C4-8867-8DA478A8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C4FF9-549F-4BA7-9A12-26BDA1DE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ED9A8-4824-4E2C-914D-D8FC41E9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CF001-1864-43FE-AD2A-0CEECF5F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709C1-2B31-4315-9ED5-63207E81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F8F-4697-4D1E-BA65-DB1982D7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6CAFB-A8ED-4085-A73D-3318E23B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1BD9E-BAE7-4685-BBB1-8B884A84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7A706-BFF5-4759-B88A-439B3C2B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2D37E-F3D8-48B9-92B5-AE135A1E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126AE-C371-4409-9663-8AF62F34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B42B4-0ABF-4B2F-9942-2D1FF203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D0F2F-5610-420D-A43F-3854A71B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9C973-EB33-447C-8A12-2669DD5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D287D-2C15-478B-96DC-72E85C01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9E0B3-4103-472B-9B41-566A23F2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E56-F8DC-4874-BE6F-24D939B3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D9A1B-415D-4E0A-8FBE-5A0C0E76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295CD-5BDC-4B3C-9916-E33F50D5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D8B4F-5DE8-4EFF-A8C4-0CC14ED0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D5AC6-5E9A-4D8A-A775-F421039E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C0FE8-F5EA-4D08-8369-490569D3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71DB6-A32D-4941-8818-C2A3F8D2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19C74-A25E-4DD8-A599-F4C58037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438BC-AA5E-4A4E-A4B8-8ECE78D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5C18C-FFD3-4D5E-B8F3-8DD83D65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40A3D-D127-46B0-8333-E275A3B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D288-7743-4FC8-AB16-323BE882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B9BCE-C0D3-477E-95C2-D4402C30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0510C-33A2-4509-A3A9-4555D26B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DD221-2D0D-4D7C-860C-006BF6C7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75AB2-5CA7-49C3-8771-1F70EB6E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75C78-05E8-480D-9EFB-16358A6D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288CE-B4DB-4433-80D8-8C799708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3C335-79A9-4B6D-AC19-7B6DDDB2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78C6E-CEDA-4884-8B0D-66A07E61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BF447-DF42-41F6-A8F4-BEC64C2A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AE85B-99E2-4446-951D-F0FBCDFF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0369-FEB6-45C5-BDAB-C1DA466A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F4357-E268-4CF5-A0A6-E986EC4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26AC6-249B-493A-80AE-370397DA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C2DF7-E553-47F4-A889-8F92BF88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EF951-4E65-4F96-8F45-04FCFE25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4EF3B-9E11-428E-83CD-9B41D210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8971D-71A3-402E-A8F5-126C17FF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882B9-572A-426B-9932-6A3FF94A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67052-90B2-40A1-941B-0E97ED0A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D3248-5558-424A-99ED-9D1214D8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CA4D3-2433-4368-B987-62F51D35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C2B8-6176-4D88-A7C3-2F10F7C8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D9513-437C-4845-AF83-6419E3B5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83AAE-269F-4502-BCD5-4B36A9FC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0DE7A-670B-46D7-B656-474687E5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F0D66-7ECA-4931-A9B9-85801BF3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B3CF4-25C3-4CD1-919B-B9E8BC8A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4E401-724B-40A0-849C-954EEA76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75A3B-4347-41B1-A6AF-167CB89E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56656-EB61-4DE1-A497-011D4B45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71665-9667-43E7-BACA-26D480BC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CE446-27BD-4B37-84A3-7166867C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0DF8-E0F6-4CDE-845B-57F3EC42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97CB0-5F28-4284-85FB-B51E6261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22CA9-6520-48E3-A301-756877B6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45783-0CB2-4A33-B590-1CD07DE8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3EDC2-CDFC-4FEF-95D4-A95F236D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93F40-260D-439B-A768-ED88436E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10219-302C-41A5-AB1F-3D13308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BBE40-B56A-44A8-8E95-7F923D8E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A6087-826F-4B74-94B8-86B5A2B5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7071B-599F-4B0A-BE8A-60B4C30D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2823-3518-440F-A7C5-DF0834CA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863F-3E56-46A2-8DE6-6C5B9D0D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E2E5-E04B-4BE2-A07C-3B534362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55E-93F7-4E32-B5E9-AFC11D7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691B-3DF7-4D9F-8C8E-C52CA9E9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E4FD-A672-45FE-AB51-2189983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5C9D-657C-404E-9D73-0B398F89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B64C-A89D-49BD-BE83-5FDAB7B8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27E2-AB93-43DA-8777-43863724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BF95-A01A-467F-94DA-009035E6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95EA-C464-4DA6-A701-7D6E3144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6230-9070-4591-900A-99598766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CF76-D34B-4B9C-B10F-AECEB558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0E92A-03B6-4064-B739-A02F0A19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E1C-6E34-46A9-9267-1DA5F63F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4B45-B112-40FB-8618-889C57F2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F544-DC4F-4D7B-9451-DB68DF30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7923-772B-4DD3-8243-CFDF7B1F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5C28-353D-44C5-A0E8-B893859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F0FB-9C86-4FD3-AD1E-43662971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4B3B7-98E6-4F61-8BB9-46B3A5FA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7EC7C-237B-48A5-9E71-C84EC61D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3CB96-CFE7-467C-AE40-E94523F0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71175-CFF4-47E7-B1D1-2D0E91BD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D6BF3-56ED-47E3-8315-41716754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341-59B7-44EE-BED0-B8145F30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5882-1576-48D8-B22C-E31DDF67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BBFD4-8465-4D94-BF6E-784955C2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6A33-5B63-4280-9D36-87A47C92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B43F-37B0-4F9A-B18F-DC876F40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6AA3B-7C6A-46D1-9F82-C141F3C3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91B45-2B93-43FE-9BF6-BD4ADFF6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F159-76AB-40F8-A640-7558E4D4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4EE1A-C4CB-4558-BFF1-BC4D4109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7C539-062B-414D-9894-E21FC7BB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AEDD7-DBC4-4A45-B6C1-67735AE7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C51-0D52-4157-B887-28CB34DA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C8E2B-2C43-47FE-A947-88810F6C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1500E-982A-4C00-A2DC-F3313796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A3910-9C00-4B59-9C24-53C0ADC1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94D5F-C1EE-46AC-9EE7-B6075A1D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AB49D-3F30-44E5-BF8B-A359366A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95E3-2199-41E8-A76B-36DE16D9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00DB-A4BF-4031-A384-30AF749B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14591-5454-4861-92ED-DFF71BEA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8FB09-F726-432F-B492-5FC4CFC9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92AB9-B97F-413E-8BEB-E5A0673B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722-F058-4E30-BA71-39078565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5BDC2-163A-430A-8745-1F9112EC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88FF6-F274-4DF2-8BFF-EB8F65E3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73C5B-70FF-4292-92FF-2BAC6BF1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C242B-88E3-493B-B704-10BA31C6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456F3-3F31-447A-8035-7420E961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8A361-8C6D-4884-8614-15018A28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93445-7F22-4DFE-99F6-52AD3BA9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BFD92-C325-40BB-8DB0-82C6E06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2CE1B-5E4F-4E4C-9E0D-F30BC2BB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26CF7-677A-4D52-9A4B-B1F8BC68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147-356A-4AD7-921B-769D413D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DE50F-8DF1-4AE0-8407-FF62E602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40902-384D-46E3-85F9-23783253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11712-C089-4836-818C-E333D206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E12DD-DC14-4EF1-8228-D5B648D3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1EA81-F6EB-4A6F-809D-019351D9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9D95-5CFB-4AC2-9567-EA332F5D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B3883-E03B-4251-BD75-D3B7F5EA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E541A-05F3-4F6F-8097-5842FACE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BB19-CA0D-48F1-A7D8-F06A44E5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93D20-5371-4124-B6C0-26E5F2C0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E4F-E0B3-4C62-956B-F9FDB47A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500AF-A614-4977-95B1-3D9C2570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E323A-3BB6-4020-90C8-0091026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27991-EDAE-472E-8D59-D5B6D0EB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01C7F-F2C9-47E2-BB3E-AA06574D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04081-7B59-4563-892C-DC9192E1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6598DB-EF80-4C07-97E4-0408311F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5F33A-7F1A-4944-B4CD-F6BE847C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189A94-8225-449E-929E-0694D84A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9DE7A8-2E95-4325-95F5-1ADBDEF6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402E0E-F403-41C7-BC37-771D04D6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B9E-5221-4E26-BBFE-B9D51C1A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D42C86-A9A3-4E83-8884-0FEFB9BE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A52113-0E37-4814-B777-DD6EDAFA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28BA18-4325-49D2-B414-90766E0A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815C63-49B4-464B-BE73-07C6119F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225264-EF73-4C43-A565-869DDF04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A8A904-D6BE-41AC-B37F-9F477E12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B667A0-A900-47A9-B03E-C8B004DF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5DCF6-C36A-4B5A-A054-8163A6F5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FCD04-FA75-4541-B138-1C063B01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AD0FB-D75C-4E12-B8DC-88FA8A24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7D09-46CE-4B0E-9EE9-7B7F125443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2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C2ED-C956-4B6D-A1E0-A869A7C59A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6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AF5C-A2E5-4391-A507-C627D67733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1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BCFF-87CF-4B77-B41B-9B55E36DD0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5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0AAB-E41D-4611-8519-3FF0DA7FEA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3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0805-8585-4BEA-A205-08796C5DB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DAE4-4A34-40EA-8CE8-020F2992AC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318F-5A1F-4221-9505-1D66C7A42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21EC-059B-490D-AA9A-2AB7733D4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92D3-B896-4852-B528-24E4574965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9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116D-7B53-44C2-A79C-E634A5A9AF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7C0F-3058-44C0-AD1D-EE04E5F06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05DB-D490-4A61-9639-0217F15C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7C02-016D-455F-9A36-1110757F77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</a:t>
            </a: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 Land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s Always Tougher In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Verdana"/>
              </a:rPr>
              <a:t>By, Alexander Cox &amp; Anthony 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45" fill="hold"/>
                                        <p:tgtEl>
                                          <p:spTgt spid="8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troduction: Problems and Solution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ld Climate: Very cold clim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uses rivers to freeze and permafrost 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ng Of Fire: a large ring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canoes on the Kamchatka  Peninsu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mafrost : a frost that forms 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winter months and sta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manently till Summer prevent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chitecture and m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539424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ce Break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ecific architecture (piling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1" name="Picture 6" descr="http://ts3.mm.bing.net/images/thumbnail.aspx?q=333383410654&amp;id=29c8f3b948c2b7254918f2c4622045b1&amp;index=ch1"/>
          <p:cNvPicPr/>
          <p:nvPr/>
        </p:nvPicPr>
        <p:blipFill>
          <a:blip r:embed="rId2"/>
          <a:srcRect l="0" t="0" r="-1323" b="9800"/>
          <a:stretch/>
        </p:blipFill>
        <p:spPr>
          <a:xfrm>
            <a:off x="5791320" y="2286000"/>
            <a:ext cx="289548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ndforms Of Russ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1251000" y="3909960"/>
            <a:ext cx="664200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6" name="Picture 10" descr="physical-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Landforms: Mountains, Plateaus &amp; Plain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l Mountains: The mountain rage that is the border of Asia &amp; Europe. Elevation:100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casus Mountains: The mountain range separating Russia and South East Asia. Mt. Elbrus: 564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European Plains: The Large plain west of the Ural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3615" fill="hold"/>
                                        <p:tgtEl>
                                          <p:spTgt spid="8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3615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21046" fill="hold"/>
                                        <p:tgtEl>
                                          <p:spTgt spid="8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and Forms: Mountains, Plateaus &amp; Plains Continu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 Siberian Plain: The large plain just West of the Central Siberian Penins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Siberian Plateau: a huge plateau in the center of Rus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ew other mountain ranges in Russia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yan Mts., Yablonovyy Range, Stanovoy Range, Verkhoyansk Range, &amp; Kolyma R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 Forms: Bodies of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olyma River             Lake Baika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nisey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olga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n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rtysh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na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ur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ral Riv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3"/>
          <a:stretch/>
        </p:blipFill>
        <p:spPr>
          <a:xfrm>
            <a:off x="3429000" y="228600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4"/>
          <a:stretch/>
        </p:blipFill>
        <p:spPr>
          <a:xfrm>
            <a:off x="6019920" y="2286000"/>
            <a:ext cx="29559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1309" fill="hold"/>
                                        <p:tgtEl>
                                          <p:spTgt spid="8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6:42Z</dcterms:created>
  <dc:creator>Alex</dc:creator>
  <dc:description/>
  <dc:language>en-US</dc:language>
  <cp:lastModifiedBy> </cp:lastModifiedBy>
  <dcterms:modified xsi:type="dcterms:W3CDTF">2010-12-20T14:16:00Z</dcterms:modified>
  <cp:revision>14</cp:revision>
  <dc:subject/>
  <dc:title>The Land is Always Tougher In Russia</dc:title>
</cp:coreProperties>
</file>